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gif" ContentType="image/gif"/>
  <Override PartName="/ppt/media/image13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42.gif" ContentType="image/gif"/>
  <Override PartName="/ppt/media/image43.jpeg" ContentType="image/jpeg"/>
  <Override PartName="/ppt/media/image36.png" ContentType="image/pn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AC0-010E-40DE-A1B8-ECAA749A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734-E856-49AA-920F-5DFC023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FE2-E29A-4389-834C-8E863066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35F-3634-47F1-A393-04757A51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9A25-37AF-4F98-944A-B7D90426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47EF-3D14-4FD3-952B-74D1779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598-65C3-4C95-B270-50451420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DDF3-14FF-43AF-B539-29CEB98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5F6-CFCC-47E6-876C-ECC40B46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3AEF-4DEC-4BA5-BBFB-6CA0748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F46-12C1-4473-A977-36AC6E4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922-4CF2-44BD-A7D5-055560E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530A-7264-42B2-BD3C-F598402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08E4-AA13-4AEA-9565-FEC0194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D50-E432-4FD3-94A5-D7D658E4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3B6-76A5-477C-A40D-1C25B99F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489-236B-44F4-A259-25D2E71E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01E3-B8B3-4E84-842B-64AF808A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2F62-2C50-4266-8353-A1126BF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6950-6011-494E-819B-C7916A6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5F9B-A23D-498A-9E03-6BE00E5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435D-45E6-4F2C-98C8-C80DCEF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BF1-D142-4AD4-A2ED-46C5D1E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3EF9-1A0C-46C0-A52B-8C8759A1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972A-98E4-4AF1-941E-A1C7715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5CB3-78EF-4636-A343-32622BF8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ABEA-6EDF-4B0F-9E0C-2621AA75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134C-534F-4D99-BE16-A30C40A9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596B-8FB0-4445-A908-69FEB03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1693-492B-43B6-98D0-74117BE9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CF8-F636-4C89-95DE-3772917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8F2-BBE7-4923-B06A-6E590CB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927-A184-45DD-99FD-DD09DBE6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4EA-9FA8-4FCB-B7AC-11EEA61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ED4-1556-4702-AAA8-B355C3D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688-7176-4D73-88AF-875562C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D5F4-0983-494A-8772-D9892E15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7CC-B76D-4B45-91E1-531CF537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21C-B011-45F1-91CD-E8E528ACC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400" y="1157400"/>
            <a:ext cx="7602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a0000"/>
                </a:solidFill>
                <a:latin typeface="Georgia"/>
              </a:rPr>
              <a:t>Cell Growth and Division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eorgia"/>
              </a:rPr>
              <a:t>Mitotic  &amp; Meiotic Stages of Cellular Division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Georgia"/>
              </a:rPr>
              <a:t>Cell Division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- </a:t>
            </a:r>
            <a:r>
              <a:rPr b="0" i="1" lang="en-US" sz="3200" spc="-1" strike="noStrike">
                <a:solidFill>
                  <a:srgbClr val="003366"/>
                </a:solidFill>
                <a:latin typeface="Georgia"/>
              </a:rPr>
              <a:t>When do cells divide?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ells divide continuousl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ght n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no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n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now. .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owing, dividing, and dy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vent cells from becoming too lar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plenish lost cell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5569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Cell Division</a:t>
            </a: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- the process by which a cell divides into new </a:t>
            </a: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daughter cells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wo Forms of Cell Divi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s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ios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Georgia"/>
              </a:rPr>
              <a:t>Before each cell division, each cell must first copy its genetic information; each daughter cell then gets a complete copy of that inform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dy cells (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omatic cell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du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pies (cl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 genetically identical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aughter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Mei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rm layer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00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ive rise to Sex cells (gamete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varies/ Test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gg and Sperm Cell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du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genetically differen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 genetically different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Georg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aughter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 sperm ce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 egg cell, 3 polar bod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http://fig.cox.miami.edu/~cmallery/150/mitosis/c13x8meiosis-comparison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Genetic Terminology 101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deoxyribonucleic ac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netic inform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a specific segment of DNA that codes for a prote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Chromati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strands of uncoiled DNA wrapped around protein molecules (histone &amp; nucleosome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st common form of chromosom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ands shorten, thicken, and condense, forming distinct chromosomes (occurs before a cell begins to divid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Chromosom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condensed strands of DNA that serve as carriers of genetic material during cell divi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ly visible during cell divis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densed, tightly-packed chromat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rkly staining structure that contains DN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http://users.ntua.gr/sofial/DNA.jpg"/>
          <p:cNvPicPr/>
          <p:nvPr/>
        </p:nvPicPr>
        <p:blipFill>
          <a:blip r:embed="rId1"/>
          <a:stretch/>
        </p:blipFill>
        <p:spPr>
          <a:xfrm>
            <a:off x="0" y="152280"/>
            <a:ext cx="5257800" cy="6400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http://cmgm.stanford.edu/biochem201/Slides/Chromatin%20Structure/15%20EM%20of%20Chromatin%20Solenoid.JPG"/>
          <p:cNvPicPr/>
          <p:nvPr/>
        </p:nvPicPr>
        <p:blipFill>
          <a:blip r:embed="rId2"/>
          <a:stretch/>
        </p:blipFill>
        <p:spPr>
          <a:xfrm>
            <a:off x="4846680" y="152280"/>
            <a:ext cx="42973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hromosome Anatomy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rt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ng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ntrome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inetocho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mologous Chromoso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gle-stranded chromoso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romatid (single-stranded chromosom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uble-stranded chromoso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ster Chromatids (double-stranded chromosom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http://www.ualr.edu/~botany/chromosome.jpg"/>
          <p:cNvPicPr/>
          <p:nvPr/>
        </p:nvPicPr>
        <p:blipFill>
          <a:blip r:embed="rId1"/>
          <a:stretch/>
        </p:blipFill>
        <p:spPr>
          <a:xfrm>
            <a:off x="0" y="0"/>
            <a:ext cx="8218440" cy="6161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http://wappingersschools.org/RCK/staff/teacherhp/johnson/visualvocab/Centromere.jpg"/>
          <p:cNvPicPr/>
          <p:nvPr/>
        </p:nvPicPr>
        <p:blipFill>
          <a:blip r:embed="rId2"/>
          <a:srcRect l="15800" t="0" r="23601" b="0"/>
          <a:stretch/>
        </p:blipFill>
        <p:spPr>
          <a:xfrm>
            <a:off x="7197840" y="2666880"/>
            <a:ext cx="194616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hromosome Numbers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cells of every living organism have a specific number of chromosomes (not related to complexity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uit fly = 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rot = 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umans = 4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Diploid Numb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400" spc="-1" strike="noStrike">
                <a:solidFill>
                  <a:srgbClr val="336699"/>
                </a:solidFill>
                <a:latin typeface="Georgia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- full set of chromosomes (humans = 46);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omatic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Haploid Numb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400" spc="-1" strike="noStrike">
                <a:solidFill>
                  <a:srgbClr val="336699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- half set of chromosom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umans = 23);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rm cells (gametes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http://morgan.rutgers.edu/morganwebframes/level1/page2/ChromNum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he Cell Cycle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a0000"/>
                </a:solidFill>
                <a:latin typeface="Georgia"/>
              </a:rPr>
              <a:t>The sequence (cycle) of growth and division of a cel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Georgia"/>
              </a:rPr>
              <a:t>WHY ARE CELLS SO SMALL?</a:t>
            </a:r>
            <a:endParaRPr b="0" lang="en-US" sz="40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he Cell Cycle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pic>
        <p:nvPicPr>
          <p:cNvPr id="351" name="Picture 4" descr="http://www.bmb.psu.edu/courses/biotc489/notes/cycle.jpg"/>
          <p:cNvPicPr/>
          <p:nvPr/>
        </p:nvPicPr>
        <p:blipFill>
          <a:blip r:embed="rId1"/>
          <a:stretch/>
        </p:blipFill>
        <p:spPr>
          <a:xfrm>
            <a:off x="2286000" y="1752480"/>
            <a:ext cx="4876920" cy="485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uring the cell cycle, a cell grows, prepares for division, and divides to form new daughter cells, each of which will then enter the cycle agai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ell Cycle consists of two main par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275480" indent="-425160">
              <a:spcBef>
                <a:spcPts val="601"/>
              </a:spcBef>
              <a:buClr>
                <a:srgbClr val="00336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Inter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75480" indent="-425160">
              <a:spcBef>
                <a:spcPts val="601"/>
              </a:spcBef>
              <a:buClr>
                <a:srgbClr val="00336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Mitosi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374400"/>
            <a:ext cx="81630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6337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1.  Inter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cell growth, preparation, DNA duplication, daily metabolism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71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of the time (95% of the ti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tween 21 and 23 hours (depends on cell typ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G</a:t>
            </a:r>
            <a:r>
              <a:rPr b="1" lang="en-US" sz="2000" spc="-1" strike="noStrike" baseline="-25000">
                <a:solidFill>
                  <a:srgbClr val="336699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(GAP/ growth)- rapid growth, centrioles replicate, protein synthesi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(Synthesis)- DNA (chromosomes) are duplicated; single-stranded to double-stranded chromosome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Why are chromosomes copied prior to cell division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G</a:t>
            </a:r>
            <a:r>
              <a:rPr b="1" lang="en-US" sz="2000" spc="-1" strike="noStrike" baseline="-25000">
                <a:solidFill>
                  <a:srgbClr val="336699"/>
                </a:solidFill>
                <a:latin typeface="Georg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(GAP/ growth)- more growth, organelles copied, final preparations before mitosis and cell divis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G</a:t>
            </a:r>
            <a:r>
              <a:rPr b="1" lang="en-US" sz="2000" spc="-1" strike="noStrike" baseline="-25000">
                <a:solidFill>
                  <a:srgbClr val="336699"/>
                </a:solidFill>
                <a:latin typeface="Georgi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Some cells (nerve) enter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nd remain until stimulated to divide; may be permanen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104436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2.</a:t>
            </a: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division stage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vision of the nucleus, followed by the division of the cytoplas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rt with one cell and you produce two “</a:t>
            </a:r>
            <a:r>
              <a:rPr b="0" lang="en-US" sz="3200" spc="-1" strike="noStrike">
                <a:solidFill>
                  <a:srgbClr val="336699"/>
                </a:solidFill>
                <a:latin typeface="Georgia"/>
              </a:rPr>
              <a:t>identic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” daughter cell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vided into 4 distinct stag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Meta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Ana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Telopha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http://images.clinicaltools.com/images/gene/mitosis.jpg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735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Inter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not considered a stage of mitosis (period between cell division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3240" y="1905120"/>
            <a:ext cx="397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l is diploid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46 double-stranded chromosom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l is non-divi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formed chromosom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chromati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ntrioles are together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t cells lack centriole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247032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13" descr="Interphase"/>
          <p:cNvPicPr/>
          <p:nvPr/>
        </p:nvPicPr>
        <p:blipFill>
          <a:blip r:embed="rId1"/>
          <a:stretch/>
        </p:blipFill>
        <p:spPr>
          <a:xfrm>
            <a:off x="912960" y="2508120"/>
            <a:ext cx="39780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Pro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 (</a:t>
            </a:r>
            <a:r>
              <a:rPr b="0" lang="en-US" sz="2800" spc="-1" strike="noStrike">
                <a:solidFill>
                  <a:srgbClr val="336699"/>
                </a:solidFill>
                <a:latin typeface="Georgia"/>
              </a:rPr>
              <a:t>Early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): Beginning stage of Mitosis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ntrioles separate and move in opposite directions towards the po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Spindle fiber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microtubules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begin to f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uclear envelope begins to disappear (fragment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6 d.s. Chromosomes start to form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chromatin condense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47032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5" name="Picture 12" descr="Early Prophase"/>
          <p:cNvPicPr/>
          <p:nvPr/>
        </p:nvPicPr>
        <p:blipFill>
          <a:blip r:embed="rId1"/>
          <a:stretch/>
        </p:blipFill>
        <p:spPr>
          <a:xfrm>
            <a:off x="912960" y="2508120"/>
            <a:ext cx="39780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Pro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336699"/>
                </a:solidFill>
                <a:latin typeface="Georgia"/>
              </a:rPr>
              <a:t>La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uclear envelope go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entrioles are at opposite pol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romosomes attach to the spindle apparatus at the (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kinetochor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centromere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begin to move towards the center of the c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e double-stranded chromosome on each spindle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36699"/>
                </a:solidFill>
                <a:latin typeface="Georgia"/>
              </a:rPr>
              <a:t>Spindle apparatus is like a football or bird cag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Picture 7" descr="http://iws.ccccd.edu/jbeck/CellDivision%20web/LateProphase2.jpg"/>
          <p:cNvPicPr/>
          <p:nvPr/>
        </p:nvPicPr>
        <p:blipFill>
          <a:blip r:embed="rId1"/>
          <a:stretch/>
        </p:blipFill>
        <p:spPr>
          <a:xfrm>
            <a:off x="912960" y="2379600"/>
            <a:ext cx="397800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Meta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“middle phase”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222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2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22120" indent="-222120">
              <a:spcBef>
                <a:spcPts val="700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6 double-stranded chromosomes line up at the center of the cell (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equat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Georgia"/>
              </a:rPr>
              <a:t>Due to the “tug-of-war” between the microtubules of the spind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40984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2" name="Picture 12" descr="Metaphase"/>
          <p:cNvPicPr/>
          <p:nvPr/>
        </p:nvPicPr>
        <p:blipFill>
          <a:blip r:embed="rId1"/>
          <a:stretch/>
        </p:blipFill>
        <p:spPr>
          <a:xfrm>
            <a:off x="380880" y="2232000"/>
            <a:ext cx="3978360" cy="3687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Anaphase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43600" y="1904760"/>
            <a:ext cx="4100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Karyokinesi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division of the nucle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uble-stranded chromosomes or “sister chromatids” split at their centrome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chromatid is pulled in opposite directions towards the po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46 d.s. chromosomes </a:t>
            </a:r>
            <a:r>
              <a:rPr b="0" lang="en-US" sz="20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92 s.s chromosom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46 s.s. 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46 s.s.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47032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6" name="Picture 12" descr="Anaphase"/>
          <p:cNvPicPr/>
          <p:nvPr/>
        </p:nvPicPr>
        <p:blipFill>
          <a:blip r:embed="rId1"/>
          <a:stretch/>
        </p:blipFill>
        <p:spPr>
          <a:xfrm>
            <a:off x="912960" y="2508120"/>
            <a:ext cx="39780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Surface-to-Volume Ratio (4:8)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ate at which cellular exchange takes place depends on the </a:t>
            </a:r>
            <a:r>
              <a:rPr b="0" lang="en-US" sz="3200" spc="-1" strike="noStrike" u="sng">
                <a:solidFill>
                  <a:srgbClr val="9a0000"/>
                </a:solidFill>
                <a:uFillTx/>
                <a:latin typeface="Georgia"/>
              </a:rPr>
              <a:t>Surface Are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f the cell (total area of its cell membran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ate at which food and oxygen are used up and waste products are produced (</a:t>
            </a: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) depends on the cell’s </a:t>
            </a:r>
            <a:r>
              <a:rPr b="0" lang="en-US" sz="3200" spc="-1" strike="noStrike" u="sng">
                <a:solidFill>
                  <a:srgbClr val="9a0000"/>
                </a:solidFill>
                <a:uFillTx/>
                <a:latin typeface="Georgia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Telophase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division of the cytoplas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ll begins to pinch or cleave (</a:t>
            </a: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furrow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cell returns to Interphase character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pindle disappe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chromatin re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nuclear envelope refo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wo identical daughter cells produc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diploid cells (46 s.s. chrom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9" name="Picture 12" descr="Telophase"/>
          <p:cNvPicPr/>
          <p:nvPr/>
        </p:nvPicPr>
        <p:blipFill>
          <a:blip r:embed="rId1"/>
          <a:stretch/>
        </p:blipFill>
        <p:spPr>
          <a:xfrm>
            <a:off x="457200" y="182880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http://www.sirinet.net/~jgjohnso/modcleavage.jpg"/>
          <p:cNvPicPr/>
          <p:nvPr/>
        </p:nvPicPr>
        <p:blipFill>
          <a:blip r:embed="rId2"/>
          <a:stretch/>
        </p:blipFill>
        <p:spPr>
          <a:xfrm>
            <a:off x="3048120" y="3733920"/>
            <a:ext cx="192852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Georgia"/>
              </a:rPr>
              <a:t>Plant Cell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t cells lack centrioles; have a indistinguishable fibrous region instea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ytokinesis is accomplished by the formation of a 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cell plat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nstead of a cleavage furro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3" name="Picture 9" descr="http://www.sirinet.net/~jgjohnso/modcellplate.jpg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http://www.bio.miami.edu/dana/250/mitosis.jpg"/>
          <p:cNvPicPr/>
          <p:nvPr/>
        </p:nvPicPr>
        <p:blipFill>
          <a:blip r:embed="rId1"/>
          <a:stretch/>
        </p:blipFill>
        <p:spPr>
          <a:xfrm>
            <a:off x="1752480" y="228600"/>
            <a:ext cx="54216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http://www.micro.utexas.edu/courses/levin/bio304/genetics/mitosis.gif"/>
          <p:cNvPicPr/>
          <p:nvPr/>
        </p:nvPicPr>
        <p:blipFill>
          <a:blip r:embed="rId1"/>
          <a:stretch/>
        </p:blipFill>
        <p:spPr>
          <a:xfrm>
            <a:off x="457200" y="98280"/>
            <a:ext cx="8229600" cy="675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http://www.sci.sdsu.edu/multimedia/mitosis/mitosis_withtext.gif"/>
          <p:cNvPicPr/>
          <p:nvPr/>
        </p:nvPicPr>
        <p:blipFill>
          <a:blip r:embed="rId1"/>
          <a:stretch/>
        </p:blipFill>
        <p:spPr>
          <a:xfrm>
            <a:off x="1523880" y="228600"/>
            <a:ext cx="62168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0" y="3013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youtube.com/watch?v=aDAw2Zg4I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clt.astate.edu/mhuss/mitosis.jpg"/>
          <p:cNvPicPr/>
          <p:nvPr/>
        </p:nvPicPr>
        <p:blipFill>
          <a:blip r:embed="rId1"/>
          <a:stretch/>
        </p:blipFill>
        <p:spPr>
          <a:xfrm>
            <a:off x="2286000" y="304920"/>
            <a:ext cx="5181480" cy="577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Mitotic Summary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end, </a:t>
            </a: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All cell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eproduce through mit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Asexual reproduc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mitosis results in the formation of a complete new organ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Sexual reproduc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mitosis is utilized to replenish, repair, and maintain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tosis makes copies of the original ce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duce two identical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aughter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http://www.iupui.edu/~iutox/images/cancer%20cell.jpg"/>
          <p:cNvPicPr/>
          <p:nvPr/>
        </p:nvPicPr>
        <p:blipFill>
          <a:blip r:embed="rId1"/>
          <a:stretch/>
        </p:blipFill>
        <p:spPr>
          <a:xfrm>
            <a:off x="152280" y="914400"/>
            <a:ext cx="5326200" cy="4183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ain title.jpg (22473 bytes)"/>
          <p:cNvPicPr/>
          <p:nvPr/>
        </p:nvPicPr>
        <p:blipFill>
          <a:blip r:embed="rId2"/>
          <a:srcRect l="24261" t="24000" r="4522" b="19267"/>
          <a:stretch/>
        </p:blipFill>
        <p:spPr>
          <a:xfrm>
            <a:off x="2514600" y="228600"/>
            <a:ext cx="632448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ttp://www.learner.org/channel/courses/biology/images/archive/fullsize/1606_fs.jpg"/>
          <p:cNvPicPr/>
          <p:nvPr/>
        </p:nvPicPr>
        <p:blipFill>
          <a:blip r:embed="rId3"/>
          <a:stretch/>
        </p:blipFill>
        <p:spPr>
          <a:xfrm>
            <a:off x="4724280" y="3048120"/>
            <a:ext cx="376092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http://info.cancerresearchuk.org/images/gpimages/ys_cell_division2"/>
          <p:cNvPicPr/>
          <p:nvPr/>
        </p:nvPicPr>
        <p:blipFill>
          <a:blip r:embed="rId4"/>
          <a:stretch/>
        </p:blipFill>
        <p:spPr>
          <a:xfrm>
            <a:off x="2209680" y="3581280"/>
            <a:ext cx="2876760" cy="243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Cell Cycle Regulation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not all cells move through the cell cycle at the same rate or undergo the same number of divisions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Contact Inhibi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usually stops cells from dividing when they come in contact with each oth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Enzymatic Contro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Enzyme = 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Cycli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; Cyclin regulates the timing of the cell cycl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Internal Regulato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enzymes that respond to events inside the ce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 mitosis until all chromosomes have been replicat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 anaphase until all chromosomes are attached to mitotic spindl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External Regulato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enzymes that respond to events outside the ce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irect cells to speed up or slow down cell cyc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rowth factors stimulate the growth and division of cell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6948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As a cell’s size increases, its volume increases much faster than its surface area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magine a Cube-shaped cel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 side of the cell is doubled: </a:t>
            </a: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surface are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creas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 side of the cell is doubled: </a:t>
            </a: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creas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8X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rface Area (cm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= length x width x number of sid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olume (cm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= length x width x heigh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http://mil.citrus.cc.ca.us/cat2courses/bio104/ChapterNotes/images/ch8/0156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Uncontrolled Cell Growth and Division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71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ck of, overproduction, or wrong timing in the release of enzymes can cause uncontrolled cell division or </a:t>
            </a: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CANC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cond leading cause of death in U.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cer cells do not respond to the signals that regulate the growth of most cells (</a:t>
            </a:r>
            <a:r>
              <a:rPr b="0" lang="en-US" sz="1800" spc="-1" strike="noStrike">
                <a:solidFill>
                  <a:srgbClr val="336699"/>
                </a:solidFill>
                <a:latin typeface="Georgia"/>
              </a:rPr>
              <a:t>error in the cell cyc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cer cells do not show contact inhibition– development of tumor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cer cells may break loose from tumors and spread throughout the body, disrupting normal activities and/ or depriving health cells of vital nutrient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ny cancer cells have a defect in a gene called 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p53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ch normally halts the cycle until all chromosomes have been replicated– chromosome damage accumulates– cells are unable to respond to regulatory signal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ncbi.nlm.nih.gov/books/NBK22268/bin/p53.jpg"/>
          <p:cNvPicPr/>
          <p:nvPr/>
        </p:nvPicPr>
        <p:blipFill>
          <a:blip r:embed="rId1"/>
          <a:stretch/>
        </p:blipFill>
        <p:spPr>
          <a:xfrm>
            <a:off x="304920" y="228600"/>
            <a:ext cx="3047760" cy="3465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http://www.barrettsinfo.com/figures/cycle-p53.gif"/>
          <p:cNvPicPr/>
          <p:nvPr/>
        </p:nvPicPr>
        <p:blipFill>
          <a:blip r:embed="rId2"/>
          <a:stretch/>
        </p:blipFill>
        <p:spPr>
          <a:xfrm>
            <a:off x="4572000" y="152280"/>
            <a:ext cx="3714840" cy="3448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ttp://www.p53.at/images/1788.gif"/>
          <p:cNvPicPr/>
          <p:nvPr/>
        </p:nvPicPr>
        <p:blipFill>
          <a:blip r:embed="rId3"/>
          <a:stretch/>
        </p:blipFill>
        <p:spPr>
          <a:xfrm>
            <a:off x="2895480" y="3581280"/>
            <a:ext cx="3105360" cy="24004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371600" y="60278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p53.at/main.asp?VID=1&amp;kat1=45&amp;kat2=388&amp;kat3=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Meiosis 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(Gametogenesis)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al type of cell division reserved exclusively for the formation of gametes (egg and sper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Halves (cuts in half) the diploid chromosome number (in germ ce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Establishes genetic d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sts of two separate divisions, known as Meiosis I and Meiosis 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6" name="Picture 8" descr="http://www.indigo.com/software/gphpcd/em23.jpg"/>
          <p:cNvPicPr/>
          <p:nvPr/>
        </p:nvPicPr>
        <p:blipFill>
          <a:blip r:embed="rId1"/>
          <a:srcRect l="6000" t="0" r="10004" b="0"/>
          <a:stretch/>
        </p:blipFill>
        <p:spPr>
          <a:xfrm>
            <a:off x="5715000" y="2286000"/>
            <a:ext cx="3200400" cy="28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http://www.bio.miami.edu/dana/250/gametogenesis.jpg"/>
          <p:cNvPicPr/>
          <p:nvPr/>
        </p:nvPicPr>
        <p:blipFill>
          <a:blip r:embed="rId1"/>
          <a:stretch/>
        </p:blipFill>
        <p:spPr>
          <a:xfrm>
            <a:off x="2743200" y="1371600"/>
            <a:ext cx="4556160" cy="5292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-137160"/>
            <a:ext cx="8162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Spermatogenesis vs. Oogenesis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ghr.nlm.nih.gov/dynamicImages/understandGenetics/basics/MitosisMeiosis.jpg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027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 diploid cell (2n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6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ouble-stran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eorgia"/>
              </a:rPr>
              <a:t>(Meiosis I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 haploid cells (n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ouble-stran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eorgia"/>
              </a:rPr>
              <a:t>(Meiosis II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genetically differ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aploi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ells (n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ingle-stran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erphas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Pro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Meta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Ana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Telo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kinesis (No Interphase between Meiosis I and II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Pro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Meta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Telo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Prophase 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romosomes condense and become vi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ynapsis occurs (a pair of homologous chromosomes lines up closely together)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etra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s formed. Each tetrad is composed of four chromatids. (23 tetrad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rossing over may occ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imilar to mitosis, the centrioles migrate away from one another and both the nuclear envelope and nucleoli break dow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ikewise, the chromosomes begin their migration to the metaphase pl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ndisjunc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4" name="Picture 2" descr="http://www3.moe.edu.sg/edsoftware/ir/files/bio-meiosis/glossary/tetrad.jpg"/>
          <p:cNvPicPr/>
          <p:nvPr/>
        </p:nvPicPr>
        <p:blipFill>
          <a:blip r:embed="rId1"/>
          <a:stretch/>
        </p:blipFill>
        <p:spPr>
          <a:xfrm>
            <a:off x="7238880" y="1295280"/>
            <a:ext cx="1743120" cy="11811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www.sciencecases.org/mitosis_meiosis/images/meiosis_a.gif"/>
          <p:cNvPicPr/>
          <p:nvPr/>
        </p:nvPicPr>
        <p:blipFill>
          <a:blip r:embed="rId2"/>
          <a:stretch/>
        </p:blipFill>
        <p:spPr>
          <a:xfrm>
            <a:off x="4267080" y="152280"/>
            <a:ext cx="33339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Metaphase I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 Tetrads align at the metaphase p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8" name="Picture 2" descr="http://www.sciencecases.org/mitosis_meiosis/images/meiosis_b.gif"/>
          <p:cNvPicPr/>
          <p:nvPr/>
        </p:nvPicPr>
        <p:blipFill>
          <a:blip r:embed="rId1"/>
          <a:stretch/>
        </p:blipFill>
        <p:spPr>
          <a:xfrm>
            <a:off x="2971800" y="33526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http://www.blc.arizona.edu/courses/181summer/graphics/graphics%20lect5/Life7e-Fig-04-03-0%20cell%20surface%20area%20to%20volume%20rati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Anaphase I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3 double-stranded chromosomes move to the opposite cell pol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ilar to mitosis, the microtubules and the kinetochore fibers interact to cause the movem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like in mitosis, the homologous chromosomes move to opposite poles yet the sister chromatids remain togeth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1" name="Picture 2" descr="http://www.sciencecases.org/mitosis_meiosis/images/meiosis_c.gif"/>
          <p:cNvPicPr/>
          <p:nvPr/>
        </p:nvPicPr>
        <p:blipFill>
          <a:blip r:embed="rId1"/>
          <a:stretch/>
        </p:blipFill>
        <p:spPr>
          <a:xfrm>
            <a:off x="5257800" y="4648320"/>
            <a:ext cx="33336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elophase 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ce movement is complete, each pole has a haploid number of chromosom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most cases, cytokinesis occurs at the same time as telophase 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 the end of telophase I and cytokinesis, two daughter cells are produced, each with half the number of chromosomes of the original parent cell. (23 double-stranded chromosom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4" name="Picture 4" descr="Teleophase I"/>
          <p:cNvPicPr/>
          <p:nvPr/>
        </p:nvPicPr>
        <p:blipFill>
          <a:blip r:embed="rId1"/>
          <a:stretch/>
        </p:blipFill>
        <p:spPr>
          <a:xfrm>
            <a:off x="4381560" y="304920"/>
            <a:ext cx="476244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Prophase II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nuclear membrane and nuclei break up while the spindle network appears. (just like mitos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romosomes do not replicate any further in this phase of meiosi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romosomes begin migrating to the metaphase II plate (at the cell's equator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7" name="Picture 2" descr="http://www.sciencecases.org/mitosis_meiosis/images/meiosis_e.gif"/>
          <p:cNvPicPr/>
          <p:nvPr/>
        </p:nvPicPr>
        <p:blipFill>
          <a:blip r:embed="rId1"/>
          <a:stretch/>
        </p:blipFill>
        <p:spPr>
          <a:xfrm>
            <a:off x="4800600" y="304920"/>
            <a:ext cx="380988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Metaphase I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3 double-stranded chromosomes line up at the metaphase II plate at the cell's cent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0" name="Picture 2" descr="Metaphase II"/>
          <p:cNvPicPr/>
          <p:nvPr/>
        </p:nvPicPr>
        <p:blipFill>
          <a:blip r:embed="rId1"/>
          <a:stretch/>
        </p:blipFill>
        <p:spPr>
          <a:xfrm>
            <a:off x="2666880" y="3809880"/>
            <a:ext cx="376236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Anaphase I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sister chromatids separate and move toward the opposite cell pol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3 single-stranded chromosomes move in each dire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3" name="Picture 2" descr="Anaphase II"/>
          <p:cNvPicPr/>
          <p:nvPr/>
        </p:nvPicPr>
        <p:blipFill>
          <a:blip r:embed="rId1"/>
          <a:stretch/>
        </p:blipFill>
        <p:spPr>
          <a:xfrm>
            <a:off x="4191120" y="4495680"/>
            <a:ext cx="356220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elophase I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6176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inct nuclei form at the opposite poles and cytokinesis occu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meiosis II, there are four daughter cells each with half the number of chromosomes of the original parent cell. (haploid = 23 single-stranded chromosom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daughter cell is genetically differ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6" name="Picture 2" descr="Telophase II"/>
          <p:cNvPicPr/>
          <p:nvPr/>
        </p:nvPicPr>
        <p:blipFill>
          <a:blip r:embed="rId1"/>
          <a:stretch/>
        </p:blipFill>
        <p:spPr>
          <a:xfrm>
            <a:off x="3581280" y="152280"/>
            <a:ext cx="5048280" cy="189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www.brookings.k12.sd.us/biology/images/crossingover_movie.gif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Why Meiosis?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crease in genetic vari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ossing-o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trad 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disjunc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exual vs. Sexual Reprod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0" name="Picture 4" descr="http://opbs.okstate.edu/~petracek/Chapter%2025%20figures/Fig%2025-28.JPG"/>
          <p:cNvPicPr/>
          <p:nvPr/>
        </p:nvPicPr>
        <p:blipFill>
          <a:blip r:embed="rId1"/>
          <a:stretch/>
        </p:blipFill>
        <p:spPr>
          <a:xfrm>
            <a:off x="3886200" y="4038480"/>
            <a:ext cx="50515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Spherical Cell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urface Area = 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Volume = 4/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Picture 2" descr="http://www.k12math.com/math-concepts/algebra/volumes/sphere.png"/>
          <p:cNvPicPr/>
          <p:nvPr/>
        </p:nvPicPr>
        <p:blipFill>
          <a:blip r:embed="rId1"/>
          <a:stretch/>
        </p:blipFill>
        <p:spPr>
          <a:xfrm>
            <a:off x="6172200" y="1905120"/>
            <a:ext cx="27622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If cell size is doubled. . .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he cell would require eight times more nutrients and would produce eight times more waste produ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face area only increases by four ti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 enough plasma membrane to diffuse oxygen, nutrients, and was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rate of metabol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 enough DNA, not enough RNA, not enough prote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l Dea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rger cells sometimes contain more DNA (multiple nuclei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rvation or Poison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Beating the SA/V Problem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ometric Solu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ongate or flatten out (spheres have large SA/V ratio) (red blood cell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ld the surface area (amoeba, microvilli, crista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llow the center of cell (less cytoplasm, less metabolic demand) (large central vacuo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ing rate of supp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ek out areas where nutrient concentrations are hig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vely acquire bulk nutrients (taking in vacuol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rove transportation of nutrients within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e efficiency to reduce dem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vision of labor within cell (organell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vision of labor between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oidanc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y Small (DIVIDE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6:21:33Z</dcterms:created>
  <dc:creator>CASSANO</dc:creator>
  <dc:description/>
  <dc:language>en-US</dc:language>
  <cp:lastModifiedBy>cassano</cp:lastModifiedBy>
  <dcterms:modified xsi:type="dcterms:W3CDTF">2014-03-20T17:24:18Z</dcterms:modified>
  <cp:revision>25</cp:revision>
  <dc:subject/>
  <dc:title>Chapter 7- (Part II)  Cell Growth and Division </dc:title>
</cp:coreProperties>
</file>